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D14-F90A-4AC3-B2E9-EBA3E907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3B9-F63A-4571-85EB-C6A85DC0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E25-756E-4BFA-B7D5-F9F55D67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050-25FC-4633-ACFA-21BED600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38E-EC9C-43A5-A82E-54E8EB9E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A4B-2210-4ED6-AD79-B2E04FD9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634-1B5D-49C3-A91C-5223CA4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817-FEF7-47F4-ACD2-D9193D35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7EA-73FA-4F47-8594-EA8E75B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91F-084C-47F7-86AB-3E4B4B6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206-5373-42E0-BF97-506A32D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739-DC04-4413-A7F0-3CA9075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6207-B6B9-41D4-96CE-8EFD1F583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RTe4q-vR0g&amp;feature=related" TargetMode="External"/><Relationship Id="rId2" Type="http://schemas.openxmlformats.org/officeDocument/2006/relationships/hyperlink" Target="http://www.youtube.com/watch?v=sRTe4q-vR0g&amp;feature=related" TargetMode="External"/><Relationship Id="rId3" Type="http://schemas.openxmlformats.org/officeDocument/2006/relationships/hyperlink" Target="http://www.youtube.com/watch?v=sRTe4q-vR0g&amp;feature=related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FEsismdGWY" TargetMode="External"/><Relationship Id="rId2" Type="http://schemas.openxmlformats.org/officeDocument/2006/relationships/hyperlink" Target="http://www.youtube.com/watch?v=2FEsismdGWY" TargetMode="External"/><Relationship Id="rId3" Type="http://schemas.openxmlformats.org/officeDocument/2006/relationships/hyperlink" Target="http://www.youtube.com/watch?v=2FEsismdGWY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betv.co.uk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has modern British culture changed in recent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tch this clip and discu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youtube.com/watch?v</a:t>
            </a: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=sRTe4q-vR0g&amp;feature=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ian sub-continent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Karach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religion is this a symbol o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country used to be known as Cey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is the cricketer Sachin Tendulkar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UK city has the highest concentration of UK A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which country do they speak Punjab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hich country are most of the UK owners of Indian restaurants fr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 sam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eat are Muslims forbidden to e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Indian weddings what is the dow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ic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astry with a veg or meat f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ey given to the bride’s family from the groom’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 much do we know abou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do-Asian cul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UK we define anyone from what is known as the ‘Indian sub-continent’ as being Asian. In the US, Asians are those from oriental Asia (China, Japan, Korea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nations make up the Indian sub-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stan( which was part of India until 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glad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How could you tell the difference between people of these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ysical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1000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25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‘Apu’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 of Apu in the Simpsons divides opinion particularly amongst the As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ch this clip and then discuss his representation as an Asian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impson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ets a way with it because it’s an animation and it uses exaggerated stereotypes to create humour (Chief Wiggum and the police, Krusty and Jewish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 the issue is whether non-Asian audiences are laughing at the character's ‘Asianess’ or at the ‘clever’ use of stereoty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presentation of culture/ethni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arning Objec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 deeper understanding of how the media represent modern multicultural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61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cap- Ethn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is meant by ethnicit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 cultural distinctiveness based on a number of fac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is the difference between nationality and ethnic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re people within the same ethnic group the same in all ways?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are some of the British cultural stereotyp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rter task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Watch these clips from two British fil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British stereotypes can you identif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other countries perceive British culture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youtube.com/watch?v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=2FEsismdG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is Ethnicity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contributes to a person’s ethnicity? A combination of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lour of sk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a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ltural specifics- food, clothing, cust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thnicity is a complex issue – it involves more than just place of birth or colour of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wham has more than 150 languages spoken in it. However language is just one way to breakdown culture as many languages are spoken within one country or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nicity and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hnic Niche markets’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media providing for a specific ‘niche’ market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hn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ok at this example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OBE TV - YOUR CHANNEL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n you list some other media products/channels that are specifically targeting their audience based on ethnicity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ow ethnically diverse is the mainstream British medi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ample: 1Xtra is the BBCs attempt at targeting a smaller niche market or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se Study: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sian community in the UK are well represented on television, particularly in broadcast new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5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758960" cy="233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592360" cy="249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2004840" cy="17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1608120" cy="2068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429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jesh Mirchend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orge Alag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609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tin Bas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z L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ishnan Gurumu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sians in the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88000" y="3141720"/>
            <a:ext cx="223200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15955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95640" y="616572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4508640"/>
            <a:ext cx="360036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 you name any other Asians in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at reasons can you give for there being fewer ‘Asian popstars’or act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788000" y="1341360"/>
            <a:ext cx="16621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940360" y="4581360"/>
            <a:ext cx="1590840" cy="2121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5415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ians in the media contin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uld be said that Asians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der-represen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ther areas of the media notably, film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ilms can you name that feature Asian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any UK Asian musical artists can you name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sian stereo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common Asian stereotyp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you name some media examples where these stereotypes are evi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3:07:06Z</dcterms:created>
  <dc:creator>gokul</dc:creator>
  <dc:description/>
  <dc:language>en-US</dc:language>
  <cp:lastModifiedBy>#</cp:lastModifiedBy>
  <dcterms:modified xsi:type="dcterms:W3CDTF">2010-09-24T13:23:03Z</dcterms:modified>
  <cp:revision>35</cp:revision>
  <dc:subject/>
  <dc:title>Representation In Soap Opera</dc:title>
</cp:coreProperties>
</file>